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75F4-CC8A-4DF2-8829-403ABDC1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CE4-6B07-44EB-A3B4-E08AB718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BAD-C074-4807-B994-C0C6B672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200-106A-4319-9CD8-0D60AF97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B097-8856-4995-88AB-DBE067AD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880C-494B-4BD6-A007-4902C7B8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468C-93C4-4D7A-B950-ECF0E917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F381-EFDB-47D8-A3BE-127200FF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A09B-C395-44BE-BB3D-24FE71BC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0A76-C0B8-4F32-8A21-FED48EF4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EE84-B4BF-4F7B-9F69-514F2A96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BE3-E6A4-4D18-BE17-4E5B57F4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E786-7E9A-47EB-B797-10056427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01AC-0B9E-47FA-80B4-3D374B20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7A0A-EA28-48DF-935E-688BA588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E5A9-C682-4453-A39F-FF58A991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0DAD-C77A-4C1E-8C60-D63003E7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FB31-2CBB-4A72-AB3C-CBA6414C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E4F-0528-4B24-A327-BB3E2566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C70-88AF-4229-A4A2-D85E9049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EFA-27FB-494C-A451-FEF31DA8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A70-7424-434E-A947-9C71F080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3990-132B-4798-9D1F-6ACAD856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BD80-F5AA-4BA6-A547-BEC1B91F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7D04-F227-46D3-990C-60B3AA0B40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EE9A-3186-4301-BA82-CCC8DD99ED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av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am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ar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0000" y="836640"/>
            <a:ext cx="468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OTIMPUR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imava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amn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3314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ar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19280" y="1700280"/>
            <a:ext cx="59054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8:59:47Z</dcterms:created>
  <dc:creator>AS</dc:creator>
  <dc:description/>
  <dc:language>en-US</dc:language>
  <cp:lastModifiedBy>AS</cp:lastModifiedBy>
  <dcterms:modified xsi:type="dcterms:W3CDTF">2010-01-05T19:40:13Z</dcterms:modified>
  <cp:revision>5</cp:revision>
  <dc:subject/>
  <dc:title>Diapozitivul 1</dc:title>
</cp:coreProperties>
</file>